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0" t="814" r="0" b="0"/>
          <a:stretch/>
        </p:blipFill>
        <p:spPr>
          <a:xfrm>
            <a:off x="7648560" y="276120"/>
            <a:ext cx="1368360" cy="482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540640" y="654372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7FB597-1134-4CE2-81EA-C1448578BD0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rcRect l="0" t="89542" r="0" b="0"/>
          <a:stretch/>
        </p:blipFill>
        <p:spPr>
          <a:xfrm>
            <a:off x="0" y="6813720"/>
            <a:ext cx="9140760" cy="698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4"/>
          <p:cNvGrpSpPr/>
          <p:nvPr/>
        </p:nvGrpSpPr>
        <p:grpSpPr>
          <a:xfrm>
            <a:off x="0" y="0"/>
            <a:ext cx="9142560" cy="861840"/>
            <a:chOff x="0" y="0"/>
            <a:chExt cx="9142560" cy="86184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6480"/>
              <a:ext cx="9142560" cy="85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6" descr=""/>
            <p:cNvPicPr/>
            <p:nvPr/>
          </p:nvPicPr>
          <p:blipFill>
            <a:blip r:embed="rId5"/>
            <a:srcRect l="62224" t="0" r="15728" b="0"/>
            <a:stretch/>
          </p:blipFill>
          <p:spPr>
            <a:xfrm>
              <a:off x="7128000" y="0"/>
              <a:ext cx="2014560" cy="855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95280" y="98100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3200" spc="-1" strike="noStrike">
                <a:solidFill>
                  <a:srgbClr val="008080"/>
                </a:solidFill>
                <a:latin typeface="Arial"/>
              </a:rPr>
              <a:t>Ministério da Previdência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8080"/>
                </a:solidFill>
                <a:latin typeface="Arial"/>
              </a:rPr>
              <a:t>Secretaria de Políticas de Previdência Social - SP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755640" y="2781360"/>
            <a:ext cx="777564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4400" spc="-1" strike="noStrike">
                <a:solidFill>
                  <a:srgbClr val="000080"/>
                </a:solidFill>
                <a:latin typeface="Arial"/>
              </a:rPr>
              <a:t>Os Conselhos de Previdência So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755640" y="5587920"/>
            <a:ext cx="754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8080"/>
                </a:solidFill>
                <a:latin typeface="Arial"/>
              </a:rPr>
              <a:t>Março - 20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35" descr="mps-cabecalho"/>
          <p:cNvPicPr/>
          <p:nvPr/>
        </p:nvPicPr>
        <p:blipFill>
          <a:blip r:embed="rId1"/>
          <a:stretch/>
        </p:blipFill>
        <p:spPr>
          <a:xfrm>
            <a:off x="679320" y="3107052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57200" y="1484280"/>
          <a:ext cx="8229600" cy="4608720"/>
        </p:xfrm>
        <a:graphic>
          <a:graphicData uri="http://schemas.openxmlformats.org/drawingml/2006/table">
            <a:tbl>
              <a:tblPr/>
              <a:tblGrid>
                <a:gridCol w="1336680"/>
                <a:gridCol w="600120"/>
                <a:gridCol w="438120"/>
                <a:gridCol w="412560"/>
                <a:gridCol w="412920"/>
                <a:gridCol w="412920"/>
                <a:gridCol w="414000"/>
                <a:gridCol w="412920"/>
                <a:gridCol w="412920"/>
                <a:gridCol w="412560"/>
                <a:gridCol w="412920"/>
                <a:gridCol w="412560"/>
                <a:gridCol w="412920"/>
                <a:gridCol w="414360"/>
                <a:gridCol w="412560"/>
                <a:gridCol w="898560"/>
              </a:tblGrid>
              <a:tr h="46044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te / Centro O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9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pólis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0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ém / P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 Vista / R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iabá / M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0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to Federal / D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rados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iânia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0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apá / A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us / AM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7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mas / T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Velho / 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0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Branco / A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8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SITUAÇÃO REGI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11280" y="1123920"/>
          <a:ext cx="8064360" cy="5446800"/>
        </p:xfrm>
        <a:graphic>
          <a:graphicData uri="http://schemas.openxmlformats.org/drawingml/2006/table">
            <a:tbl>
              <a:tblPr/>
              <a:tblGrid>
                <a:gridCol w="2109600"/>
                <a:gridCol w="2789280"/>
                <a:gridCol w="3165480"/>
              </a:tblGrid>
              <a:tr h="2779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IV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TIV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2068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Sudeste 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raçatuba, Bauru, Campinas, Jundiaí, Marília, Piracicaba, Ribeirão Preto, Santo André, Santos, São José dos Campos, São Paulo, Sorocaba, Taubaté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raraquara, Guarulhos, Osasco, Presidente Prudente, São Bernardo do Campo, São João da Boa Vista, São José do Rio Pret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4588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Sudeste I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5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elo Horizonte, Contagem, Diamantina, Ouro Preto,  Teófilo Otoni, Varginha, Vitór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rbacena, Campos dos Goytacazes, Divinópolis, Duque de Caxias, Governador Valadares, Juiz de Fora, Montes Claros, Niterói, Petrópolis, Poços de Caldas, Rio de Janeiro, Uberaba, Uberlând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6496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Su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4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lumenau, Canoas, Cascavel, Caxias do Sul, Chapecó, Criciúma, Curitiba, Florianópolis, Ijuí, Joinville, Maringá, Novo Hamburgo, Pelotas, Ponta Grossa, Porto Alegre, Santa Maria, Uruguaia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drina, Passo Fund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5092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Nordes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75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mpina Grande, Garanhus, Itabuna,  João Pessoa, Juazeiro, Juazeiro do Norte, Maceió, Petroli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racaju, Barreiras, Caruaru, Feira de Santana, Fortaleza, Imperatriz, Mossoró, Natal,  Recife, Santo Antônio de Jesus, São Luís, Salvador, Sobral, Teresina, Vitória da Conquist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27144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Norte/Centro-Oes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istrito Federal, Dourados, Goiânia, Manau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nápolis, Belém, Boa Vista, Campo Grande, Cuiabá, Macapá, Palmas, Porto Velho, Rio Branco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79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RESUMO GE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55640" y="1341360"/>
          <a:ext cx="7848720" cy="3959280"/>
        </p:xfrm>
        <a:graphic>
          <a:graphicData uri="http://schemas.openxmlformats.org/drawingml/2006/table">
            <a:tbl>
              <a:tblPr/>
              <a:tblGrid>
                <a:gridCol w="3032280"/>
                <a:gridCol w="2374920"/>
                <a:gridCol w="2441520"/>
              </a:tblGrid>
              <a:tr h="603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IV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TIV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Sudest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51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Sudest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S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530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Norde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601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Norte/Centro-Oe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64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6" name="CaixaDeTexto 3"/>
          <p:cNvSpPr/>
          <p:nvPr/>
        </p:nvSpPr>
        <p:spPr>
          <a:xfrm>
            <a:off x="755640" y="5415120"/>
            <a:ext cx="78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Observação: O Conselho de Volta Redonda, referente à Superintendência Regional Sudeste II, nunca foi instalado e o CPS de Niterói/RJ, regional Sudeste II, estará reinstalando o Conselho em março/20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CRONOGRAMA DE REUNIÕES – CPS - 20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2205000"/>
          <a:ext cx="8229600" cy="2935440"/>
        </p:xfrm>
        <a:graphic>
          <a:graphicData uri="http://schemas.openxmlformats.org/drawingml/2006/table">
            <a:tbl>
              <a:tblPr/>
              <a:tblGrid>
                <a:gridCol w="1230480"/>
                <a:gridCol w="768240"/>
                <a:gridCol w="617400"/>
                <a:gridCol w="471600"/>
                <a:gridCol w="527040"/>
                <a:gridCol w="539640"/>
                <a:gridCol w="460440"/>
                <a:gridCol w="617400"/>
                <a:gridCol w="692280"/>
                <a:gridCol w="692280"/>
                <a:gridCol w="768240"/>
                <a:gridCol w="844560"/>
              </a:tblGrid>
              <a:tr h="576360">
                <a:tc gridSpan="12">
                  <a:txBody>
                    <a:bodyPr lIns="37800" rIns="3780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intendência Regional Sudeste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-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240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undiaí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348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íl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384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racicab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204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o André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384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pin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129"/>
          <p:cNvSpPr/>
          <p:nvPr/>
        </p:nvSpPr>
        <p:spPr>
          <a:xfrm>
            <a:off x="457200" y="2768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68360" y="2492280"/>
          <a:ext cx="8229600" cy="2016360"/>
        </p:xfrm>
        <a:graphic>
          <a:graphicData uri="http://schemas.openxmlformats.org/drawingml/2006/table">
            <a:tbl>
              <a:tblPr/>
              <a:tblGrid>
                <a:gridCol w="1461960"/>
                <a:gridCol w="768600"/>
                <a:gridCol w="558720"/>
                <a:gridCol w="517320"/>
                <a:gridCol w="462240"/>
                <a:gridCol w="537840"/>
                <a:gridCol w="462240"/>
                <a:gridCol w="538200"/>
                <a:gridCol w="691920"/>
                <a:gridCol w="692280"/>
                <a:gridCol w="770040"/>
                <a:gridCol w="768240"/>
              </a:tblGrid>
              <a:tr h="503280">
                <a:tc gridSpan="12">
                  <a:txBody>
                    <a:bodyPr lIns="37800" rIns="3780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intendência Regional Sudeste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-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0328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vernador Valada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0508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amantin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1484280"/>
          <a:ext cx="8229600" cy="4241880"/>
        </p:xfrm>
        <a:graphic>
          <a:graphicData uri="http://schemas.openxmlformats.org/drawingml/2006/table">
            <a:tbl>
              <a:tblPr/>
              <a:tblGrid>
                <a:gridCol w="1319040"/>
                <a:gridCol w="774720"/>
                <a:gridCol w="547920"/>
                <a:gridCol w="460440"/>
                <a:gridCol w="541080"/>
                <a:gridCol w="515880"/>
                <a:gridCol w="492120"/>
                <a:gridCol w="554040"/>
                <a:gridCol w="698760"/>
                <a:gridCol w="696960"/>
                <a:gridCol w="853920"/>
                <a:gridCol w="774720"/>
              </a:tblGrid>
              <a:tr h="504720">
                <a:tc gridSpan="12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intendência Regional Su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-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no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sso Fund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ju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nta Gross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ingá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xias do Su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orianópol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lot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to Aleg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139"/>
          <p:cNvSpPr/>
          <p:nvPr/>
        </p:nvSpPr>
        <p:spPr>
          <a:xfrm>
            <a:off x="457200" y="2130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57200" y="2421000"/>
          <a:ext cx="8229600" cy="1915920"/>
        </p:xfrm>
        <a:graphic>
          <a:graphicData uri="http://schemas.openxmlformats.org/drawingml/2006/table">
            <a:tbl>
              <a:tblPr/>
              <a:tblGrid>
                <a:gridCol w="1320840"/>
                <a:gridCol w="776160"/>
                <a:gridCol w="558720"/>
                <a:gridCol w="451080"/>
                <a:gridCol w="542880"/>
                <a:gridCol w="542880"/>
                <a:gridCol w="466920"/>
                <a:gridCol w="542880"/>
                <a:gridCol w="698400"/>
                <a:gridCol w="698400"/>
                <a:gridCol w="854280"/>
                <a:gridCol w="776160"/>
              </a:tblGrid>
              <a:tr h="638280">
                <a:tc gridSpan="12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intendência Regional Nord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-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792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uazeiro do Nor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74" name="Rectangle 1"/>
          <p:cNvSpPr/>
          <p:nvPr/>
        </p:nvSpPr>
        <p:spPr>
          <a:xfrm>
            <a:off x="457200" y="3389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836640"/>
            <a:ext cx="889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O que são os Conselhos de Previdência Soci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50920" y="1413000"/>
            <a:ext cx="8569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03, por força do Decreto nº 4.874, de 11 de novembro, foram criados os Conselhos de Previdência Social - CPS, unidades descentralizadas do Conselho Nacional de Previdência Social – CNPS, vinculadas ou funcionando junto às Gerências-Executivas do Instituto Nacional do Seguro Social - IN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instâncias colegiadas e têm caráter consultivo e de assessoramento, podendo encaminhar propostas para serem deliberadas no âmbito do CN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conselhos buscam ampliar o diálogo entre a gerência-executiva do INSS e a sociedade, permitindo que as necessidades específicas de cada localidade no que diz respeito ao debate de políticas públicas e de legislação previdenciárias sejam atendidas de modo mais efic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11280" y="2060640"/>
            <a:ext cx="7632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3600" spc="-1" strike="noStrike">
                <a:solidFill>
                  <a:srgbClr val="3333cc"/>
                </a:solidFill>
                <a:latin typeface="Arial"/>
              </a:rPr>
              <a:t>Muito obrigado</a:t>
            </a:r>
            <a:br>
              <a:rPr sz="3600"/>
            </a:br>
            <a:br>
              <a:rPr sz="3600"/>
            </a:br>
            <a:br>
              <a:rPr sz="24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Contatos: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Esplanada dos Ministérios, Bloco F, 7º Andar, Sala 735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Brasília, DF - CEP: 70059-900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E-mail: cnps@previdencia.gov.br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Fone: (61) 2021-5164/5301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Fax: (61) 2021-5345</a:t>
            </a:r>
            <a:r>
              <a:rPr b="1" i="1" lang="pt-BR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108000" y="981000"/>
            <a:ext cx="8856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CPS são compostos por 10 conselheiros, sendo 2 representantes dos trabalhadores, 2 dos empregadores, 2 dos aposentados e pensionistas e 4 do Governo, os quais se reúnem ao menos uma vez por bimes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representante tem como principal atribuição identificar características da Previdência que possam ser aperfeiçoadas; fazer propostas para melhorar a gestão do sistema previdenciário; facilitar o desenvolvimento e solidificação da gestão democrática e próxima dos cidadãos, além de exercer o controle social sobre a administração públic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108000" y="981000"/>
            <a:ext cx="8856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tual regimento interno dos CPS foi aprovado pela Resolução nº 1.304 de 10 de dezembro de 2008 do CN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0920" y="1871640"/>
            <a:ext cx="84247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QUADRO DE REUNIÕES – C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2004 - 20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1197000"/>
          <a:ext cx="8435880" cy="5184720"/>
        </p:xfrm>
        <a:graphic>
          <a:graphicData uri="http://schemas.openxmlformats.org/drawingml/2006/table">
            <a:tbl>
              <a:tblPr/>
              <a:tblGrid>
                <a:gridCol w="1370160"/>
                <a:gridCol w="615960"/>
                <a:gridCol w="447480"/>
                <a:gridCol w="424080"/>
                <a:gridCol w="423720"/>
                <a:gridCol w="422280"/>
                <a:gridCol w="423720"/>
                <a:gridCol w="424080"/>
                <a:gridCol w="422280"/>
                <a:gridCol w="423720"/>
                <a:gridCol w="423720"/>
                <a:gridCol w="424080"/>
                <a:gridCol w="422280"/>
                <a:gridCol w="423720"/>
                <a:gridCol w="424080"/>
                <a:gridCol w="920520"/>
              </a:tblGrid>
              <a:tr h="29196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9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ru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rulh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diaí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íli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sc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aci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95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dente Prudent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eirã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dr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Bernardo do Campo/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11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ão da Boa Vist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 Ri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s Camp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/Lest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o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ubaté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57200" y="1197000"/>
          <a:ext cx="8435880" cy="5089680"/>
        </p:xfrm>
        <a:graphic>
          <a:graphicData uri="http://schemas.openxmlformats.org/drawingml/2006/table">
            <a:tbl>
              <a:tblPr/>
              <a:tblGrid>
                <a:gridCol w="1370160"/>
                <a:gridCol w="615960"/>
                <a:gridCol w="447480"/>
                <a:gridCol w="424080"/>
                <a:gridCol w="423720"/>
                <a:gridCol w="422280"/>
                <a:gridCol w="423720"/>
                <a:gridCol w="424080"/>
                <a:gridCol w="422280"/>
                <a:gridCol w="423720"/>
                <a:gridCol w="423720"/>
                <a:gridCol w="424080"/>
                <a:gridCol w="422280"/>
                <a:gridCol w="423720"/>
                <a:gridCol w="424080"/>
                <a:gridCol w="920520"/>
              </a:tblGrid>
              <a:tr h="27612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1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9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s dos Goytacazes/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gem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3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1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anti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9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nópoli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3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que de Caxia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3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1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ernador Valadares/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iz de For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9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es Claro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1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erói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o Preto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ópoli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9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ços de Calda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1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de Janeiro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ófilo Otoni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6/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ab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1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lândi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3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9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ginh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/ 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9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1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 Redonda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1268280"/>
          <a:ext cx="8435880" cy="5040360"/>
        </p:xfrm>
        <a:graphic>
          <a:graphicData uri="http://schemas.openxmlformats.org/drawingml/2006/table">
            <a:tbl>
              <a:tblPr/>
              <a:tblGrid>
                <a:gridCol w="1370160"/>
                <a:gridCol w="615960"/>
                <a:gridCol w="447480"/>
                <a:gridCol w="424080"/>
                <a:gridCol w="423720"/>
                <a:gridCol w="422280"/>
                <a:gridCol w="423720"/>
                <a:gridCol w="424080"/>
                <a:gridCol w="422280"/>
                <a:gridCol w="423720"/>
                <a:gridCol w="423720"/>
                <a:gridCol w="424080"/>
                <a:gridCol w="422280"/>
                <a:gridCol w="423720"/>
                <a:gridCol w="424080"/>
                <a:gridCol w="920520"/>
              </a:tblGrid>
              <a:tr h="32076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cavel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5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xias do Sul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8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pecó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ciúma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itib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juí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6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inville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ngá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o Hamburg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 Fund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lot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11/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ta Gross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5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Alegre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a Mari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uguaian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1/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35" descr="mps-cabecalho"/>
          <p:cNvPicPr/>
          <p:nvPr/>
        </p:nvPicPr>
        <p:blipFill>
          <a:blip r:embed="rId1"/>
          <a:stretch/>
        </p:blipFill>
        <p:spPr>
          <a:xfrm>
            <a:off x="644400" y="3087036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5" descr="mps-cabecalho"/>
          <p:cNvPicPr/>
          <p:nvPr/>
        </p:nvPicPr>
        <p:blipFill>
          <a:blip r:embed="rId2"/>
          <a:stretch/>
        </p:blipFill>
        <p:spPr>
          <a:xfrm>
            <a:off x="644400" y="3124188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5" descr="mps-cabecalho"/>
          <p:cNvPicPr/>
          <p:nvPr/>
        </p:nvPicPr>
        <p:blipFill>
          <a:blip r:embed="rId3"/>
          <a:stretch/>
        </p:blipFill>
        <p:spPr>
          <a:xfrm>
            <a:off x="709560" y="3121344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57200" y="1125360"/>
          <a:ext cx="8435880" cy="5342040"/>
        </p:xfrm>
        <a:graphic>
          <a:graphicData uri="http://schemas.openxmlformats.org/drawingml/2006/table">
            <a:tbl>
              <a:tblPr/>
              <a:tblGrid>
                <a:gridCol w="1370160"/>
                <a:gridCol w="615960"/>
                <a:gridCol w="447480"/>
                <a:gridCol w="424080"/>
                <a:gridCol w="423720"/>
                <a:gridCol w="422280"/>
                <a:gridCol w="423720"/>
                <a:gridCol w="424080"/>
                <a:gridCol w="422280"/>
                <a:gridCol w="423720"/>
                <a:gridCol w="423720"/>
                <a:gridCol w="424080"/>
                <a:gridCol w="422280"/>
                <a:gridCol w="423720"/>
                <a:gridCol w="424080"/>
                <a:gridCol w="920520"/>
              </a:tblGrid>
              <a:tr h="31140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88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 / S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reira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uaru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ira de Santa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taleza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anhuns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bu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22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eratriz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ão Pessoa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3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do Norte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9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eió / 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soró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11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al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9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olina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11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vador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3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1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tonio de Jesu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Luís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bral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5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esina / P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1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da Conquist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7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lvana do Socorro Machado Rodrigues - MPS</cp:lastModifiedBy>
  <cp:lastPrinted>2015-03-12T22:39:06Z</cp:lastPrinted>
  <dcterms:modified xsi:type="dcterms:W3CDTF">2015-03-26T15:59:41Z</dcterms:modified>
  <cp:revision>161</cp:revision>
  <dc:subject/>
  <dc:title>Slide 1</dc:title>
</cp:coreProperties>
</file>